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F23-DDF4-4DD4-BA25-48E823A1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67F-F751-4E3F-8F0E-F99C6D89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C86-501E-47B0-BA48-BAB52628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C61-B2A3-4E99-8B51-6CB30128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EFA-F361-482A-8202-1A109FDC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B7A-0682-40C4-A300-CDBE119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A24-765D-40C2-A959-2CA645DA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416-CB37-4937-A9DB-D30B066D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57B-8B7F-4998-B920-329E2B2E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BD3-0A82-4128-B31D-2FD0169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309-027D-4F05-AFAC-6B20194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772-5DA5-476B-A8CD-E2833E26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992-D726-4C9E-BDAD-A5AE3102F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ngelina Gar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743200" y="1600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2057400" y="2590920"/>
            <a:ext cx="4762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1440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to liv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thumb/c/c3/Raphael_School_of_Athens.jpg/300px-Raphael_School_of_Athens.jpg"/>
          <p:cNvPicPr/>
          <p:nvPr/>
        </p:nvPicPr>
        <p:blipFill>
          <a:blip r:embed="rId1"/>
          <a:stretch/>
        </p:blipFill>
        <p:spPr>
          <a:xfrm>
            <a:off x="2438280" y="2971800"/>
            <a:ext cx="4491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457200" y="1752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1905120" y="2743200"/>
            <a:ext cx="4848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676520" y="17524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greece.mrdonn.org/pelopo1.gif"/>
          <p:cNvPicPr/>
          <p:nvPr/>
        </p:nvPicPr>
        <p:blipFill>
          <a:blip r:embed="rId1"/>
          <a:stretch/>
        </p:blipFill>
        <p:spPr>
          <a:xfrm>
            <a:off x="2438280" y="2743200"/>
            <a:ext cx="3867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1523880" y="144792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d of government 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esterlund10.wikis.birmingham.k12.mi.us/file/view/oligcarchy.jpg/208643622/oligcarchy.jpg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219320" y="1371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eltered place along a coast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eyefetch.com/p/4r/1488265-3ec27a41-87b0-44fd-9ef1-606d93697446.jpg"/>
          <p:cNvPicPr/>
          <p:nvPr/>
        </p:nvPicPr>
        <p:blipFill>
          <a:blip r:embed="rId1"/>
          <a:stretch/>
        </p:blipFill>
        <p:spPr>
          <a:xfrm>
            <a:off x="2209680" y="3124080"/>
            <a:ext cx="448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wallpaperlounge.eu/data/media/920/The_Parthenon_Acropolis_Athens_Greece.jpg"/>
          <p:cNvPicPr/>
          <p:nvPr/>
        </p:nvPicPr>
        <p:blipFill>
          <a:blip r:embed="rId1"/>
          <a:stretch/>
        </p:blipFill>
        <p:spPr>
          <a:xfrm>
            <a:off x="1981080" y="28954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eurail.com/sites/all/files/all/photos/tourism/countries/greece/agora_athens_greece_ventdusud-600.jpg"/>
          <p:cNvPicPr/>
          <p:nvPr/>
        </p:nvPicPr>
        <p:blipFill>
          <a:blip r:embed="rId1"/>
          <a:stretch/>
        </p:blipFill>
        <p:spPr>
          <a:xfrm>
            <a:off x="1905120" y="2286000"/>
            <a:ext cx="5095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914400" y="160020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t1.gstatic.com/images?q=tbn:ANd9GcQDto4DMB6XZYg4U2morbDPPoeLrQAiWlkXZ6I7G7bYWsTzk31eopwMizpcyw"/>
          <p:cNvPicPr/>
          <p:nvPr/>
        </p:nvPicPr>
        <p:blipFill>
          <a:blip r:embed="rId1"/>
          <a:stretch/>
        </p:blipFill>
        <p:spPr>
          <a:xfrm>
            <a:off x="2133720" y="3352680"/>
            <a:ext cx="47242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295280" y="16765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2.bp.blogspot.com/-fEFSpISshxY/Ten3VZdexjI/AAAAAAAAMfc/tsFBOiTWND8/s1600/ancient+greek+citizens.jpg"/>
          <p:cNvPicPr/>
          <p:nvPr/>
        </p:nvPicPr>
        <p:blipFill>
          <a:blip r:embed="rId1"/>
          <a:stretch/>
        </p:blipFill>
        <p:spPr>
          <a:xfrm>
            <a:off x="2209680" y="2971800"/>
            <a:ext cx="5124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sfakia-crete.com/sfakia-crete/greekmigration.gif"/>
          <p:cNvPicPr/>
          <p:nvPr/>
        </p:nvPicPr>
        <p:blipFill>
          <a:blip r:embed="rId1"/>
          <a:stretch/>
        </p:blipFill>
        <p:spPr>
          <a:xfrm>
            <a:off x="2362320" y="2895480"/>
            <a:ext cx="36957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government where people vote to make dec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QXNIKnzi4LtYvs-KYf0oSJppjOP9L93mXB87JVzDaKHZVF5OB-tIAeK4xV"/>
          <p:cNvPicPr/>
          <p:nvPr/>
        </p:nvPicPr>
        <p:blipFill>
          <a:blip r:embed="rId1"/>
          <a:stretch/>
        </p:blipFill>
        <p:spPr>
          <a:xfrm>
            <a:off x="2819520" y="3352680"/>
            <a:ext cx="38862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523880" y="15238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t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www.jeron.je/anglia/learn/pri/history/greeks/image5.jpg"/>
          <p:cNvPicPr/>
          <p:nvPr/>
        </p:nvPicPr>
        <p:blipFill>
          <a:blip r:embed="rId1"/>
          <a:stretch/>
        </p:blipFill>
        <p:spPr>
          <a:xfrm>
            <a:off x="2438280" y="335268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3880" y="1371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greece.mrdonn.org/argos.1.gif"/>
          <p:cNvPicPr/>
          <p:nvPr/>
        </p:nvPicPr>
        <p:blipFill>
          <a:blip r:embed="rId1"/>
          <a:stretch/>
        </p:blipFill>
        <p:spPr>
          <a:xfrm>
            <a:off x="2743200" y="2590920"/>
            <a:ext cx="3191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21:02Z</dcterms:modified>
  <cp:revision>95</cp:revision>
  <dc:subject/>
  <dc:title>Ancient Greece</dc:title>
</cp:coreProperties>
</file>